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6201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3059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5530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9196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formational 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ynthesizing Sources: Main Ideas and Supporting E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39880" y="1754280"/>
            <a:ext cx="77706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formational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Connecting to the Lit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Introducing the Informational Tex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Vocabulary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formational Reading Focus: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Steps for Synthesi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6095880" y="594360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48083.JPG"/>
          <p:cNvPicPr/>
          <p:nvPr/>
        </p:nvPicPr>
        <p:blipFill>
          <a:blip r:embed="rId2"/>
          <a:srcRect l="0" t="9350" r="0" b="13353"/>
          <a:stretch/>
        </p:blipFill>
        <p:spPr>
          <a:xfrm>
            <a:off x="1905120" y="4572000"/>
            <a:ext cx="1595160" cy="123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ynthesizing is a lot like cooking: You take different materials and put them together to make something ne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7" name="" descr="20162.JPG"/>
          <p:cNvPicPr/>
          <p:nvPr/>
        </p:nvPicPr>
        <p:blipFill>
          <a:blip r:embed="rId3"/>
          <a:stretch/>
        </p:blipFill>
        <p:spPr>
          <a:xfrm>
            <a:off x="6019920" y="3505320"/>
            <a:ext cx="259056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292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77189.JPG"/>
          <p:cNvPicPr/>
          <p:nvPr/>
        </p:nvPicPr>
        <p:blipFill>
          <a:blip r:embed="rId5"/>
          <a:stretch/>
        </p:blipFill>
        <p:spPr>
          <a:xfrm>
            <a:off x="1905120" y="3276720"/>
            <a:ext cx="1592280" cy="116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FPE0023E.JPG"/>
          <p:cNvPicPr/>
          <p:nvPr/>
        </p:nvPicPr>
        <p:blipFill>
          <a:blip r:embed="rId6"/>
          <a:stretch/>
        </p:blipFill>
        <p:spPr>
          <a:xfrm>
            <a:off x="533520" y="365760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FPE0020D.JPG"/>
          <p:cNvPicPr/>
          <p:nvPr/>
        </p:nvPicPr>
        <p:blipFill>
          <a:blip r:embed="rId7"/>
          <a:stretch/>
        </p:blipFill>
        <p:spPr>
          <a:xfrm>
            <a:off x="3657600" y="3733920"/>
            <a:ext cx="121932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ynthesizing means putting together all the ideas from different sources to gain a better understanding of the whole sub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809880"/>
            <a:ext cx="28954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Synthesi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our understanding of the whole 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233676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1828800" cy="1447920"/>
          </a:xfrm>
          <a:prstGeom prst="ellipse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gazine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ti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495680"/>
            <a:ext cx="1828800" cy="1447920"/>
          </a:xfrm>
          <a:prstGeom prst="ellipse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ewspaper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ti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495680"/>
            <a:ext cx="1828800" cy="1447920"/>
          </a:xfrm>
          <a:prstGeom prst="ellipse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levis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ews s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2666880"/>
            <a:ext cx="1828800" cy="1447920"/>
          </a:xfrm>
          <a:prstGeom prst="ellipse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ternet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962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1. Determine the mess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28480" y="1920960"/>
            <a:ext cx="51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each writer’s main id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28480" y="2835360"/>
            <a:ext cx="51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ake notes on important pass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28480" y="3749760"/>
            <a:ext cx="518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Paraphrase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 difficult pass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SED0033E.JPG"/>
          <p:cNvPicPr/>
          <p:nvPr/>
        </p:nvPicPr>
        <p:blipFill>
          <a:blip r:embed="rId3"/>
          <a:stretch/>
        </p:blipFill>
        <p:spPr>
          <a:xfrm>
            <a:off x="6095880" y="395928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ETE_007.jpg"/>
          <p:cNvPicPr/>
          <p:nvPr/>
        </p:nvPicPr>
        <p:blipFill>
          <a:blip r:embed="rId4"/>
          <a:stretch/>
        </p:blipFill>
        <p:spPr>
          <a:xfrm>
            <a:off x="7493040" y="2133720"/>
            <a:ext cx="111744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107071.JPG"/>
          <p:cNvPicPr/>
          <p:nvPr/>
        </p:nvPicPr>
        <p:blipFill>
          <a:blip r:embed="rId5"/>
          <a:srcRect l="0" t="0" r="30774" b="0"/>
          <a:stretch/>
        </p:blipFill>
        <p:spPr>
          <a:xfrm>
            <a:off x="6095880" y="2133720"/>
            <a:ext cx="116064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981080" y="251460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410080" y="160020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2819520" y="3429000"/>
            <a:ext cx="152280" cy="10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13716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1370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81296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main idea in this paragrap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43800" y="2895480"/>
            <a:ext cx="1033560" cy="420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828800"/>
            <a:ext cx="5410080" cy="337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asked parents, “How often have you been in a good mood at work because of your children?” Seventy-one percent said that they’d been in a good mood either often or very often at work because of their children. If you look at the people who say they’ve been in a good mood at home because of their work, it’s 37 percent. In fact, kids really energize us fo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Child’s View of Working Parents” by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ra Daniels (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Fortune,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vember 8, 199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72200" y="3048120"/>
            <a:ext cx="2438280" cy="1008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ldren energize their parents at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3716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28480" y="1370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1828800"/>
            <a:ext cx="5410080" cy="337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asked parents, “How often have you been in a good mood at work because of your children?” Seventy-one percent said that they’d been in a good mood either often or very often at work because of their children. If you look at the people who say they’ve been in a good mood at home because of their work, it’s 37 percent. In fact, kids really energize us fo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Child’s View of Working Parents” by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ra Daniels (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Fortune,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vember 8, 199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81296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the main idea in this paragrap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6019920"/>
            <a:ext cx="2438280" cy="838080"/>
          </a:xfrm>
          <a:custGeom>
            <a:avLst/>
            <a:gdLst>
              <a:gd name="textAreaLeft" fmla="*/ 54000 w 2438280"/>
              <a:gd name="textAreaRight" fmla="*/ 2384280 w 2438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25" h="21600">
                <a:moveTo>
                  <a:pt x="0" y="0"/>
                </a:moveTo>
                <a:lnTo>
                  <a:pt x="62825" y="0"/>
                </a:lnTo>
                <a:lnTo>
                  <a:pt x="62825" y="21600"/>
                </a:lnTo>
                <a:lnTo>
                  <a:pt x="0" y="21600"/>
                </a:lnTo>
                <a:close/>
              </a:path>
              <a:path fill="lightenLess" w="62825" h="21600">
                <a:moveTo>
                  <a:pt x="0" y="0"/>
                </a:moveTo>
                <a:lnTo>
                  <a:pt x="62825" y="0"/>
                </a:lnTo>
                <a:lnTo>
                  <a:pt x="61425" y="1400"/>
                </a:lnTo>
                <a:lnTo>
                  <a:pt x="1400" y="1400"/>
                </a:lnTo>
                <a:close/>
              </a:path>
              <a:path fill="darken" w="62825" h="21600">
                <a:moveTo>
                  <a:pt x="62825" y="0"/>
                </a:moveTo>
                <a:lnTo>
                  <a:pt x="62825" y="21600"/>
                </a:lnTo>
                <a:lnTo>
                  <a:pt x="61425" y="20200"/>
                </a:lnTo>
                <a:lnTo>
                  <a:pt x="61425" y="1400"/>
                </a:lnTo>
                <a:close/>
              </a:path>
              <a:path fill="darkenLess" w="62825" h="21600">
                <a:moveTo>
                  <a:pt x="6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25" y="20200"/>
                </a:lnTo>
                <a:close/>
              </a:path>
              <a:path fill="lighten" w="6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2. Look for supporting evid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28480" y="19051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24382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28480" y="30020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1148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ecdotes, or brief s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981080" y="216360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590920" y="26668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743200" y="323064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35812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quo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971800" y="3809880"/>
            <a:ext cx="152280" cy="10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3716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28480" y="1370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828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supporting evidence does the author provi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43800" y="3160800"/>
            <a:ext cx="1033560" cy="420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1828800"/>
            <a:ext cx="5410080" cy="337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asked parents, “How often have you been in a good mood at work because of your children?” Seventy-one percent said that they’d been in a good mood either often or very often at work because of their children. If you look at the people who say they’ve been in a good mood at home because of their work, it’s 37 percent. In fact, kids really energize us fo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Child’s View of Working Parents” by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ra Daniels (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Fortune,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vember 8, 199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2200" y="3352680"/>
            <a:ext cx="2438280" cy="1923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uthor provides statistics—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centages of parents’ respon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3716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1828800"/>
            <a:ext cx="5410080" cy="337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asked parents, “How often have you been in a good mood at work because of your children?” Seventy-one percent said that they’d been in a good mood either often or very often at work because of their children. If you look at the people who say they’ve been in a good mood at home because of their work, it’s 37 percent. In fact, kids really energize us fo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Child’s View of Working Parents” by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Cora Daniels (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Fortune,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vember 8, 199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1828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supporting evidence does the author provi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6019920"/>
            <a:ext cx="2438280" cy="838080"/>
          </a:xfrm>
          <a:custGeom>
            <a:avLst/>
            <a:gdLst>
              <a:gd name="textAreaLeft" fmla="*/ 54000 w 2438280"/>
              <a:gd name="textAreaRight" fmla="*/ 2384280 w 2438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25" h="21600">
                <a:moveTo>
                  <a:pt x="0" y="0"/>
                </a:moveTo>
                <a:lnTo>
                  <a:pt x="62825" y="0"/>
                </a:lnTo>
                <a:lnTo>
                  <a:pt x="62825" y="21600"/>
                </a:lnTo>
                <a:lnTo>
                  <a:pt x="0" y="21600"/>
                </a:lnTo>
                <a:close/>
              </a:path>
              <a:path fill="lightenLess" w="62825" h="21600">
                <a:moveTo>
                  <a:pt x="0" y="0"/>
                </a:moveTo>
                <a:lnTo>
                  <a:pt x="62825" y="0"/>
                </a:lnTo>
                <a:lnTo>
                  <a:pt x="61425" y="1400"/>
                </a:lnTo>
                <a:lnTo>
                  <a:pt x="1400" y="1400"/>
                </a:lnTo>
                <a:close/>
              </a:path>
              <a:path fill="darken" w="62825" h="21600">
                <a:moveTo>
                  <a:pt x="62825" y="0"/>
                </a:moveTo>
                <a:lnTo>
                  <a:pt x="62825" y="21600"/>
                </a:lnTo>
                <a:lnTo>
                  <a:pt x="61425" y="20200"/>
                </a:lnTo>
                <a:lnTo>
                  <a:pt x="61425" y="1400"/>
                </a:lnTo>
                <a:close/>
              </a:path>
              <a:path fill="darkenLess" w="62825" h="21600">
                <a:moveTo>
                  <a:pt x="6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25" y="20200"/>
                </a:lnTo>
                <a:close/>
              </a:path>
              <a:path fill="lighten" w="6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28480" y="1370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3. Compare and contrast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3071880"/>
          <a:ext cx="8076960" cy="271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Double Daddy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Diary of a Mad Blend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he Child’s View . . 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imilar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Dif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3520" y="19209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te the similarities and differences among sources using a chart like this o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8560" y="30481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4. Make conn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28480" y="190512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nect what you read in the different sources with other works you’ve r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31240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419720" y="16002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9880" y="3260880"/>
            <a:ext cx="48006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ll three passages suggest that parents are struggling to balance work and fami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8480" y="1370160"/>
            <a:ext cx="808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t the end of “Contents of the Dead Man’s Pocket,” Tom has decided to spend more time with his wife instead of overworking. In the articles “Double Daddy,” “Diary of a Mad Blender,” and “The Child’s View of Working Parents,” different people comment on the difficulties of balancing time at work with time at home in today’s busy world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necting to the Litera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8480" y="19209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ynthesize all that you’ve learned about your topic by writing one of the 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28480" y="28195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research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28480" y="33526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edi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28480" y="38862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048120" y="35812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666880" y="41148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28480" y="44197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5. Put it all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4343400" y="16002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743360" y="294336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28480" y="1370160"/>
            <a:ext cx="831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you read “Double Daddy,” “Diary of a Mad Blender,” and “The Child’s View of Working Parents,” take notes about each article. Then, synthesize what you’ve learned in a written repor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Assign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3124080"/>
          <a:ext cx="8076960" cy="237168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eps for Synthesiz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Determine the messa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ok for supporting eviden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ompare and contra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Make connec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Put it all toget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855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5943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you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araphrase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 restate a sentence using your own w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eps for Synthesiz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438280"/>
            <a:ext cx="8076960" cy="137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76832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Original sentence: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“The image of working parents as jugglers long ago entered the gallery of cultural clichés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76832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Child’s View of Working Parents” by Cora Daniels 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(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Fortune,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November 8, 199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267080"/>
            <a:ext cx="80769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raphrased sentence: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The idea that parents have to juggle responsibilities has been part of our culture for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43600" y="6019920"/>
            <a:ext cx="2438280" cy="838080"/>
          </a:xfrm>
          <a:custGeom>
            <a:avLst/>
            <a:gdLst>
              <a:gd name="textAreaLeft" fmla="*/ 54000 w 2438280"/>
              <a:gd name="textAreaRight" fmla="*/ 2384280 w 2438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25" h="21600">
                <a:moveTo>
                  <a:pt x="0" y="0"/>
                </a:moveTo>
                <a:lnTo>
                  <a:pt x="62825" y="0"/>
                </a:lnTo>
                <a:lnTo>
                  <a:pt x="62825" y="21600"/>
                </a:lnTo>
                <a:lnTo>
                  <a:pt x="0" y="21600"/>
                </a:lnTo>
                <a:close/>
              </a:path>
              <a:path fill="lightenLess" w="62825" h="21600">
                <a:moveTo>
                  <a:pt x="0" y="0"/>
                </a:moveTo>
                <a:lnTo>
                  <a:pt x="62825" y="0"/>
                </a:lnTo>
                <a:lnTo>
                  <a:pt x="61425" y="1400"/>
                </a:lnTo>
                <a:lnTo>
                  <a:pt x="1400" y="1400"/>
                </a:lnTo>
                <a:close/>
              </a:path>
              <a:path fill="darken" w="62825" h="21600">
                <a:moveTo>
                  <a:pt x="62825" y="0"/>
                </a:moveTo>
                <a:lnTo>
                  <a:pt x="62825" y="21600"/>
                </a:lnTo>
                <a:lnTo>
                  <a:pt x="61425" y="20200"/>
                </a:lnTo>
                <a:lnTo>
                  <a:pt x="61425" y="1400"/>
                </a:lnTo>
                <a:close/>
              </a:path>
              <a:path fill="darkenLess" w="62825" h="21600">
                <a:moveTo>
                  <a:pt x="62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25" y="20200"/>
                </a:lnTo>
                <a:close/>
              </a:path>
              <a:path fill="lighten" w="62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40184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21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9218"/>
                </a:solidFill>
                <a:latin typeface="Verdana"/>
              </a:rPr>
              <a:t>Double Daddy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ing the Informational Tex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40184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9218"/>
                </a:solidFill>
                <a:latin typeface="Verdana"/>
              </a:rPr>
              <a:t>Diary of a Mad Blender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380988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200" spc="-1" strike="noStrike">
                <a:solidFill>
                  <a:srgbClr val="ff9218"/>
                </a:solidFill>
                <a:latin typeface="Verdana"/>
              </a:rPr>
              <a:t>The Child’s View of Working Parent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35056.JPG"/>
          <p:cNvPicPr/>
          <p:nvPr/>
        </p:nvPicPr>
        <p:blipFill>
          <a:blip r:embed="rId2"/>
          <a:srcRect l="0" t="0" r="0" b="32513"/>
          <a:stretch/>
        </p:blipFill>
        <p:spPr>
          <a:xfrm>
            <a:off x="609480" y="1908000"/>
            <a:ext cx="2362320" cy="15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254304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048120" y="4200480"/>
            <a:ext cx="254304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8480" y="137160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Double Daddy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happens when fathers realize that their work causes them to miss out on their famil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ing the Informational Tex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28480" y="2835360"/>
            <a:ext cx="38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find out how one dad tried mixing work and family, read “Double Daddy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15200" y="24890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00600" y="294336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Diary of a Mad Blend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n trying to be efficient actually make you more disorganized and your family more ups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ing the Informational Tex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283536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learn about one mother’s attempts to juggle work and family, read “Diary of a Mad Blender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15200" y="24890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28560" y="294336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218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The Child’s View of Working Parent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do kids really think when their parents leave for wor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ing the Informational Tex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905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528480" y="2819520"/>
            <a:ext cx="419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find out what one researcher learned about children’s attitudes toward parents who work, read “The Child’s View of Working Parent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971960" y="266688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28480" y="1371600"/>
            <a:ext cx="808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Vocabulary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henomen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n.: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bservable event, fact, or circumst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hroni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dj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nstant; habi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ekke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v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urney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plic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v.: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d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n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ining by inserting and binding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egr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v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mbine, unif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Vocabula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28480" y="1371600"/>
            <a:ext cx="808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Vocabulary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lleagu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n.: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ellow work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nvi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n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strong belie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aximiz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v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ncreases as much a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tonom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n.: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depend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oigna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dj.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emotionally moving; touc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Vocabula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28480" y="137016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218"/>
                </a:solidFill>
                <a:latin typeface="Verdana"/>
              </a:rPr>
              <a:t>Vocabulary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ll in the blanks with the correct Word Bank words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048120"/>
            <a:ext cx="80820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haps if Paul bought a watch, he wouldn’t suffer from __________ late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uring our visit to the Grand Canyon, we __________ from the North Rim to the South Ri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haring the workload __________ productivity, so Jody and her __________ worked on the project togeth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4.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__________ story made me c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Vocabular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352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hron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80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trek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5334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poign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876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colleag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8076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hronic      colleague      poignant      trekked      maximiz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743200"/>
            <a:ext cx="1233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743200"/>
            <a:ext cx="14176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743200"/>
            <a:ext cx="9604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5438880" y="2743200"/>
            <a:ext cx="10238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743200"/>
            <a:ext cx="1133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572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maximiz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565308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5:01Z</dcterms:created>
  <dc:creator>Amber </dc:creator>
  <dc:description/>
  <dc:language>en-US</dc:language>
  <cp:lastModifiedBy>stevenh</cp:lastModifiedBy>
  <dcterms:modified xsi:type="dcterms:W3CDTF">2005-11-15T00:19:08Z</dcterms:modified>
  <cp:revision>68</cp:revision>
  <dc:subject/>
  <dc:title>Slide 1</dc:title>
</cp:coreProperties>
</file>